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659D-5098-4C1D-93F7-BD27E026BC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9DD7-6EC3-4E33-9EE2-1A6B9C362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4AA1-1891-4944-8C43-99B1B4ABAB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9071-36E0-445D-97F2-5BCE75D31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20D8-9548-4758-A8E0-4BC4ACC201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FC5-2BDF-43C7-A12E-8C146B58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F97-914F-44EE-A498-CEFFE8A1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B5F-3A3F-476D-96DD-65F6E55F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A94-9164-4243-92A7-10A8F6FB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2DA3-AB30-47D4-BB49-1959B90D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4962-52A1-4326-8641-A2DA861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397B-EEB9-4FB7-9533-71529AE3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0563-8EA7-45D3-9C56-643BE0E2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A012-64BB-4FC6-B5E2-FBF0101F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8F87-3410-41C4-B2F5-95E805A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D93B-602A-4A35-86A0-F241433F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886-A97D-47FF-AF5E-8CAFD552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A393-8096-4AD9-A608-BEAE8DD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A3ED-1AF2-4BBB-98A2-7D643519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0FA4-B40F-407B-9CA3-F11C602A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D983-33EE-4400-99E7-F3D70517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5CB5-1BFE-40A0-9AB9-D330AC05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C33-8C18-4170-9A20-3045A14D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BA4-EFEF-4835-BFD9-1B08CA6A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B59-473C-466C-AC1C-9882D7F1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50CA-FABD-4AA6-879D-1A3EE82E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4F6-C887-44E3-A7CB-F0E197B0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BB9-EBC4-4AA3-BF80-E3E800D0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859-FA01-410A-83FE-79DF9E4D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6E75-B8E1-43CF-B200-73BEFDB5C9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AFD9-8F20-401E-AE58-10E9F98870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rexinspire.com/image/currency%2520exchange%2520rate.jpg&amp;imgrefurl=http://www.forexinspire.com/currency-exchange-rate-2/&amp;usg=__z97t6A_Np7DFyo3fbCeNYSnDLNo=&amp;h=326&amp;w=480&amp;sz=57&amp;hl=cy&amp;start=1&amp;um=1&amp;tbnid=FD8O0476JKSxsM:&amp;tbnh=88&amp;tbnw=129&amp;prev=/images%3Fq%3Dexchange%2Brates%2Bcurrency%26hl%3Dcy%26rls%3Dcom.microsoft:cy-gb:IE-SearchBox%26rlz%3D1I7RNWN_en%26sa%3DN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ameriflowrecycling.com/yahoo_site_admin/assets/images/1.15863459_std.jpg&amp;imgrefurl=http://www.ameriflowrecycling.com/currency_exchange_rates&amp;usg=__UR14tutxNE0F2qVsfGvJ2-SIZzg=&amp;h=598&amp;w=800&amp;sz=138&amp;hl=cy&amp;start=7&amp;um=1&amp;tbnid=ZlMawZGhnztzCM:&amp;tbnh=107&amp;tbnw=143&amp;prev=/images%3Fq%3Dexchange%2Brates%2Bcurrency%26hl%3Dcy%26rls%3Dcom.microsoft:cy-gb:IE-SearchBox%26rlz%3D1I7RNWN_en%26sa%3DN%26um%3D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4360" y="260280"/>
            <a:ext cx="777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Arian Tram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t2.gstatic.com/images?q=tbn:FD8O0476JKSxsM:http://www.forexinspire.com/image/currency%2520exchange%2520ra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1143000"/>
            <a:ext cx="2617560" cy="1785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t2.gstatic.com/images?q=tbn:ZlMawZGhnztzCM:http://ameriflowrecycling.com/yahoo_site_admin/assets/images/1.15863459_st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3357720"/>
            <a:ext cx="3627720" cy="2714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t1.gstatic.com/images?q=tbn:DAWBARYF29VB1M:http://i.ehow.com/images/GlobalPhoto/Articles/4669464/Foreignmoneyexchangerates-main_Full.jpg"/>
          <p:cNvPicPr/>
          <p:nvPr/>
        </p:nvPicPr>
        <p:blipFill>
          <a:blip r:embed="rId5"/>
          <a:stretch/>
        </p:blipFill>
        <p:spPr>
          <a:xfrm>
            <a:off x="1071720" y="4000680"/>
            <a:ext cx="3106440" cy="207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http://www.cartoonstock.com/lowres/hsc4732l.jpg"/>
          <p:cNvPicPr/>
          <p:nvPr/>
        </p:nvPicPr>
        <p:blipFill>
          <a:blip r:embed="rId6"/>
          <a:srcRect l="0" t="13150" r="5553" b="0"/>
          <a:stretch/>
        </p:blipFill>
        <p:spPr>
          <a:xfrm>
            <a:off x="1071720" y="1000080"/>
            <a:ext cx="30002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428760" y="35712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yfradd new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loud"/>
          <p:cNvSpPr/>
          <p:nvPr/>
        </p:nvSpPr>
        <p:spPr>
          <a:xfrm>
            <a:off x="357120" y="1285920"/>
            <a:ext cx="564372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£ 1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.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1500120" y="2500200"/>
            <a:ext cx="5643720" cy="1838520"/>
          </a:xfrm>
          <a:prstGeom prst="pie">
            <a:avLst/>
          </a:prstGeom>
          <a:solidFill>
            <a:srgbClr val="b3c2e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£ 1 = $1.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2786040" y="3857760"/>
            <a:ext cx="5643720" cy="1838160"/>
          </a:xfrm>
          <a:prstGeom prst="pi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£ 1 =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¥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6"/>
          <p:cNvSpPr/>
          <p:nvPr/>
        </p:nvSpPr>
        <p:spPr>
          <a:xfrm>
            <a:off x="7596360" y="2637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357120" y="857160"/>
            <a:ext cx="8501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Newidiodd Gareth £850 i ddoleri’r UD ($), p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edd y gyfradd cyfnewid yn £1 = $1.8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nt o ddoleri a gafod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2"/>
          <p:cNvSpPr/>
          <p:nvPr/>
        </p:nvSpPr>
        <p:spPr>
          <a:xfrm>
            <a:off x="285840" y="285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ghraif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4"/>
          <p:cNvSpPr/>
          <p:nvPr/>
        </p:nvSpPr>
        <p:spPr>
          <a:xfrm>
            <a:off x="5910120" y="2357280"/>
            <a:ext cx="2375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£1 = $1.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422280" y="292896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wl doler yw £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8"/>
          <p:cNvSpPr/>
          <p:nvPr/>
        </p:nvSpPr>
        <p:spPr>
          <a:xfrm>
            <a:off x="3328920" y="292896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1.88 ×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476280" y="357192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wl doler yw £1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3382560" y="357192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1.88 × 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482760" y="421488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wl doler yw £1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3603600" y="421488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1.88 × 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3"/>
          <p:cNvSpPr/>
          <p:nvPr/>
        </p:nvSpPr>
        <p:spPr>
          <a:xfrm>
            <a:off x="1462320" y="49291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4"/>
          <p:cNvSpPr/>
          <p:nvPr/>
        </p:nvSpPr>
        <p:spPr>
          <a:xfrm>
            <a:off x="3556800" y="54291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1.88 × 8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5"/>
          <p:cNvSpPr/>
          <p:nvPr/>
        </p:nvSpPr>
        <p:spPr>
          <a:xfrm>
            <a:off x="2418480" y="542916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£85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5314680" y="542916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= $15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6161400" y="2500200"/>
            <a:ext cx="23752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£1 = $2.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14200" y="285840"/>
            <a:ext cx="8501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Yn ystod ei ymweliad gwariodd Gareth gyfanswm o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1367. Ar ôl dychwelyd, newidiodd y doleri a oedd y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ddill ganddo yn ôl i bunnoedd ar gyfradd cyfnewid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 £1 = $2.20. Faint o bunnoedd a gafod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64120" y="228600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n wedd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393920" y="278604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 15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486520" y="27860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- $ 136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741840" y="27860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= $ 2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06960" y="3500280"/>
            <a:ext cx="42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nt o bunnoedd a gafod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672560" y="41432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$ 23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2601000" y="414324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÷ 2.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614760" y="41432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= £ 1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1424520" y="5214960"/>
            <a:ext cx="62233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e cwestiynau newid arian yn delio gy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luosi a rhannu yn un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31:20Z</dcterms:created>
  <dc:creator>Carwyn</dc:creator>
  <dc:description/>
  <dc:language>en-US</dc:language>
  <cp:lastModifiedBy>Carwyn</cp:lastModifiedBy>
  <dcterms:modified xsi:type="dcterms:W3CDTF">2009-09-16T22:05:57Z</dcterms:modified>
  <cp:revision>11</cp:revision>
  <dc:subject/>
  <dc:title>Diagramau cangen</dc:title>
</cp:coreProperties>
</file>